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11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358-4FBD-4B46-A367-C216AFCE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567-9D72-4DF9-BFE7-06F68B6A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EA6-4825-435E-9683-2B5F851B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2D6-95DD-4204-9519-3ECEE2B8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776-17A9-4E9E-BA89-CD76AA58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DC8-DFE1-4BA7-ABE4-9A9B710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667-A672-4C80-B6A9-CAF9A362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DA5-41E3-4A89-B9ED-983F1032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0CF-7AFD-4EF7-B3A0-FC69B7D0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129-8D5C-4A8F-91D5-25F3036E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747-F4C3-42C8-B055-8A8CD52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CAE-B071-4781-9530-FCA8294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75C7-4E7C-4DE8-A2D9-DF2A154EC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95520" y="3200400"/>
            <a:ext cx="131436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18748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186680" y="3200400"/>
            <a:ext cx="15001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638680" y="3200400"/>
            <a:ext cx="136044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124080" y="152280"/>
            <a:ext cx="2743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ff"/>
                  </a:solidFill>
                  <a:miter/>
                </a:ln>
                <a:solidFill>
                  <a:srgbClr val="0099ff"/>
                </a:solidFill>
                <a:latin typeface="Bradley Hand ITC"/>
              </a:rPr>
              <a:t>Die Mode</a:t>
            </a:r>
            <a:endParaRPr b="1" lang="en-US" sz="1800" spc="1" strike="noStrike">
              <a:ln w="9360">
                <a:solidFill>
                  <a:srgbClr val="0099ff"/>
                </a:solidFill>
                <a:miter/>
              </a:ln>
              <a:solidFill>
                <a:srgbClr val="0099ff"/>
              </a:solidFill>
              <a:latin typeface="Bradley Hand ITC"/>
              <a:ea typeface="Bradley Hand IT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114800" y="3200400"/>
            <a:ext cx="121932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2004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4648320"/>
            <a:ext cx="4284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2680" y="3276720"/>
            <a:ext cx="4287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76920" y="4648320"/>
            <a:ext cx="4284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3276720"/>
            <a:ext cx="4287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29600" y="4648320"/>
            <a:ext cx="4287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0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67240" cy="518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318600">
            <a:off x="990720" y="874440"/>
            <a:ext cx="3504960" cy="3468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9280" y="4572000"/>
            <a:ext cx="1222200" cy="204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116680" y="4572000"/>
            <a:ext cx="143640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324480" y="4572000"/>
            <a:ext cx="2514600" cy="197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4120" y="1584360"/>
            <a:ext cx="2819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Sie trägt ein wieß und schwarz gepunktet Klei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4572000"/>
            <a:ext cx="4952880" cy="2057400"/>
          </a:xfrm>
          <a:prstGeom prst="rect">
            <a:avLst/>
          </a:prstGeom>
          <a:noFill/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b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21042600">
            <a:off x="838080" y="838080"/>
            <a:ext cx="4467240" cy="5181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1143000" cy="2176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21348600">
            <a:off x="2166480" y="1446120"/>
            <a:ext cx="1795680" cy="3424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943600" y="4419720"/>
            <a:ext cx="1143000" cy="2209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57800" y="1523880"/>
            <a:ext cx="3429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Sie tr</a:t>
            </a:r>
            <a:r>
              <a:rPr b="1" lang="en-US" sz="2500" spc="-1" strike="noStrike">
                <a:solidFill>
                  <a:srgbClr val="0099ff"/>
                </a:solidFill>
                <a:latin typeface="Century Gothic"/>
              </a:rPr>
              <a:t>ägt eine </a:t>
            </a:r>
            <a:r>
              <a:rPr b="1" lang="en-AU" sz="2400" spc="-1" strike="noStrike">
                <a:solidFill>
                  <a:srgbClr val="0099ff"/>
                </a:solidFill>
                <a:latin typeface="Century Gothic"/>
              </a:rPr>
              <a:t>hohe taillierte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99ff"/>
                </a:solidFill>
                <a:latin typeface="Century Gothic"/>
              </a:rPr>
              <a:t>Jeans, einen goldene Grürtel und eine hell blau Hem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467480" y="4419720"/>
            <a:ext cx="1166760" cy="2195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467480" y="4419720"/>
            <a:ext cx="1143000" cy="2209680"/>
          </a:xfrm>
          <a:prstGeom prst="rect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4419720"/>
            <a:ext cx="1143000" cy="2209680"/>
          </a:xfrm>
          <a:prstGeom prst="rect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4419720"/>
            <a:ext cx="1143000" cy="2209680"/>
          </a:xfrm>
          <a:prstGeom prst="rect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4467240" cy="5181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rot="268800">
            <a:off x="5132160" y="990360"/>
            <a:ext cx="225900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12430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605040" y="4267080"/>
            <a:ext cx="134784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981080" y="4267080"/>
            <a:ext cx="1338480" cy="1995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1295280"/>
            <a:ext cx="3429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cc"/>
                </a:solidFill>
                <a:latin typeface="Arial"/>
              </a:rPr>
              <a:t>Sie tr</a:t>
            </a:r>
            <a:r>
              <a:rPr b="1" lang="en-US" sz="2500" spc="-1" strike="noStrike">
                <a:solidFill>
                  <a:srgbClr val="ff33cc"/>
                </a:solidFill>
                <a:latin typeface="Century Gothic"/>
              </a:rPr>
              <a:t>ägt ein rot und rosa Sweatshirt, rot </a:t>
            </a:r>
            <a:r>
              <a:rPr b="1" lang="en-AU" sz="2500" spc="-1" strike="noStrike">
                <a:solidFill>
                  <a:srgbClr val="ff33cc"/>
                </a:solidFill>
                <a:latin typeface="Century Gothic"/>
              </a:rPr>
              <a:t>leggings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33cc"/>
                </a:solidFill>
                <a:latin typeface="Century Gothic"/>
              </a:rPr>
              <a:t>, rosa </a:t>
            </a:r>
            <a:r>
              <a:rPr b="1" lang="en-AU" sz="2500" spc="-1" strike="noStrike">
                <a:solidFill>
                  <a:srgbClr val="ff33cc"/>
                </a:solidFill>
                <a:latin typeface="Century Gothic"/>
              </a:rPr>
              <a:t>beinlinge</a:t>
            </a:r>
            <a:r>
              <a:rPr b="1" lang="en-US" sz="2500" spc="-1" strike="noStrike">
                <a:solidFill>
                  <a:srgbClr val="ff33cc"/>
                </a:solidFill>
                <a:latin typeface="Century Gothic"/>
              </a:rPr>
              <a:t> und </a:t>
            </a:r>
            <a:r>
              <a:rPr b="1" lang="en-AU" sz="2500" spc="-1" strike="noStrike">
                <a:solidFill>
                  <a:srgbClr val="ff33cc"/>
                </a:solidFill>
                <a:latin typeface="Century Gothic"/>
              </a:rPr>
              <a:t>ein stirnband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33cc"/>
                </a:solidFill>
                <a:latin typeface="Century Gothic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4267080"/>
            <a:ext cx="1371600" cy="1981440"/>
          </a:xfrm>
          <a:prstGeom prst="rect">
            <a:avLst/>
          </a:pr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267080"/>
            <a:ext cx="1371600" cy="1981440"/>
          </a:xfrm>
          <a:prstGeom prst="rect">
            <a:avLst/>
          </a:pr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267080"/>
            <a:ext cx="1219320" cy="1981440"/>
          </a:xfrm>
          <a:prstGeom prst="rect">
            <a:avLst/>
          </a:pr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2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467240" cy="518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326400">
            <a:off x="1676520" y="1371600"/>
            <a:ext cx="2286000" cy="335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657600" y="228600"/>
            <a:ext cx="121932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029200" y="22860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8600"/>
            <a:ext cx="1219320" cy="190512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28600"/>
            <a:ext cx="1219320" cy="190512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52280"/>
            <a:ext cx="2438280" cy="198144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666880"/>
            <a:ext cx="33526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ff99"/>
                </a:solidFill>
                <a:latin typeface="Arial"/>
              </a:rPr>
              <a:t>Sie trägt einen grünen Rock, </a:t>
            </a:r>
            <a:r>
              <a:rPr b="1" lang="en-US" sz="2500" spc="-1" strike="noStrike">
                <a:solidFill>
                  <a:srgbClr val="00ff99"/>
                </a:solidFill>
                <a:latin typeface="Arial"/>
              </a:rPr>
              <a:t>einen gelben Grürtel</a:t>
            </a:r>
            <a:r>
              <a:rPr b="1" lang="de-DE" sz="2500" spc="-1" strike="noStrike">
                <a:solidFill>
                  <a:srgbClr val="00ff99"/>
                </a:solidFill>
                <a:latin typeface="Arial"/>
              </a:rPr>
              <a:t> und eine geblümt Blusse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5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19560" y="304920"/>
            <a:ext cx="4467240" cy="5181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282000">
            <a:off x="5790960" y="914400"/>
            <a:ext cx="146052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0400" y="2286000"/>
            <a:ext cx="99072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28600" y="2286000"/>
            <a:ext cx="1000080" cy="2152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523880" y="2286000"/>
            <a:ext cx="14814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057400" y="228600"/>
            <a:ext cx="2057400" cy="194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0"/>
            <a:ext cx="43434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fa1"/>
                </a:solidFill>
                <a:latin typeface="Arial"/>
              </a:rPr>
              <a:t>Sie tr</a:t>
            </a:r>
            <a:r>
              <a:rPr b="1" lang="en-US" sz="2500" spc="-1" strike="noStrike">
                <a:solidFill>
                  <a:srgbClr val="ff9fa1"/>
                </a:solidFill>
                <a:latin typeface="Century Gothic"/>
              </a:rPr>
              <a:t>ägt eine Jeansrocke</a:t>
            </a:r>
            <a:r>
              <a:rPr b="1" lang="en-US" sz="2500" spc="-1" strike="noStrike" u="sng">
                <a:solidFill>
                  <a:srgbClr val="ff9fa1"/>
                </a:solidFill>
                <a:uFillTx/>
                <a:latin typeface="Century Gothic"/>
              </a:rPr>
              <a:t>,</a:t>
            </a:r>
            <a:r>
              <a:rPr b="1" lang="en-US" sz="2500" spc="-1" strike="noStrike">
                <a:solidFill>
                  <a:srgbClr val="ff9fa1"/>
                </a:solidFill>
                <a:latin typeface="Century Gothic"/>
              </a:rPr>
              <a:t> eine weit, geblümt Blusse, einen braunen Grürtel, eine bruane Tasche und einen brauen Absatz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286000"/>
            <a:ext cx="990720" cy="220968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286000"/>
            <a:ext cx="1447920" cy="220968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286000"/>
            <a:ext cx="990720" cy="220968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600200" cy="20574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28600"/>
            <a:ext cx="2057400" cy="190512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8:22:51Z</dcterms:created>
  <dc:creator>WalkerPC-Dell</dc:creator>
  <dc:description/>
  <dc:language>en-US</dc:language>
  <cp:lastModifiedBy>walkeemi</cp:lastModifiedBy>
  <dcterms:modified xsi:type="dcterms:W3CDTF">2009-09-03T01:15:04Z</dcterms:modified>
  <cp:revision>9</cp:revision>
  <dc:subject/>
  <dc:title>Slide 1</dc:title>
</cp:coreProperties>
</file>